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26.jpeg" ContentType="image/jpeg"/>
  <Override PartName="/ppt/media/image32.jpeg" ContentType="image/jpeg"/>
  <Override PartName="/ppt/media/image6.png" ContentType="image/png"/>
  <Override PartName="/ppt/media/image20.png" ContentType="image/png"/>
  <Override PartName="/ppt/media/image18.png" ContentType="image/png"/>
  <Override PartName="/ppt/media/image34.jpeg" ContentType="image/jpeg"/>
  <Override PartName="/ppt/media/image8.png" ContentType="image/png"/>
  <Override PartName="/ppt/media/image33.png" ContentType="image/png"/>
  <Override PartName="/ppt/media/image9.jpeg" ContentType="image/jpeg"/>
  <Override PartName="/ppt/media/image30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F13-8AE4-4F33-9451-0BF36170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C8B-EE02-40AC-BE0E-6E955389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2FF-DA5A-430F-9F48-C188A5A9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415-8AFB-4C38-8CD3-A20281B6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5853-F247-4E6A-A47D-DA2FD9DE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56E0-73B7-4EBA-934C-9E4C4F39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7945-FDD1-421B-950C-4011E6C2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AC6C-B736-464D-B83E-EFD068D5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4FDA-F60B-4E48-AD92-8C120E82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CDB4-C8B9-40F6-8D3D-D604808D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B2C0-F607-4410-A9C8-6016D4EF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39F-03BC-451C-B9F4-B4587516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A8A2-4160-46D5-97CE-FB3002BF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5676-B0F9-47F4-9D58-9C998452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F2A4-CEF2-4890-83BF-4787F706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FBC9-0B68-41FA-B63E-927F9E72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085C-63BA-4476-A86B-F71DA6C3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7674-C866-4191-AAED-825367FE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5A67-7050-4906-AB85-5CDAE8B9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3451-6BE5-4A2F-BD64-417BA928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A9292-9703-4C44-893C-5B057A9F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B23B0-6D7B-4B31-A498-1B7BB090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24E-03F6-42F5-8FDD-2A39C4D9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370EC-1F1A-4527-8B22-BA932D0F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F1265-C377-41FD-BFC1-14861DF2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F569-C526-43CF-8404-9DE7BA9B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33A03-42D9-4F0D-A26F-B9A1F825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51DB-C440-436D-99F3-CAFF2CEF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72FD-0E7D-45C0-8CE2-0467BD1F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DA9AB-0B1E-4368-8F78-38761C59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7EC3B-DB8A-443D-B032-58F411F0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3066F-86BC-4EAC-AC91-3E4E6241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05654-D81B-46A0-916C-3492142F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891-4EF2-477E-AA73-497704D8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2D7BD-9BE0-42B0-BDD2-175E03D9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225FA-9083-4443-8573-C04186CC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2E0F-9EDC-471A-8014-2B4A629E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8AB11-BFA0-4F3B-BAEC-CAA9D915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E1222-103A-4EDE-A4D3-22C2FAF1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75DD9-826C-48D0-B91A-E59A5112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B078F-FED6-4A2B-8ADC-248E6E33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487C7-9915-432E-86CC-F6978E46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44532-963F-4C82-BE83-6065B1BB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2DFEA-38A8-41F0-BFE2-54920555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142-3827-48C3-9C8E-9E7976E5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A0F3F-A918-47A4-954A-F5C6130D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DC62F-E65B-4E4E-96EC-DA27299E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5C949-520A-4967-8452-D04F57C5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EC84C-A406-4BB2-86E9-68CC04ED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F90B3-05FE-4328-959C-A6502342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73B30-E17E-4C0A-A624-E5C00613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992FF-E64E-4813-B1A2-B1EFB043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31A3D-50A4-4EFF-9686-EDE7A949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CCE2C-C38C-4EA0-BFD9-3A543E50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FCBC0-2250-4FCD-8C66-3C7AF8D1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5238-B649-4B8D-9AA2-3E0B9C81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A2773-4A54-44D2-864B-B4A92B9A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1F934-7C47-4635-B554-FCA79289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4BEC3-28A6-414A-9D2C-23CA7E71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DACFD-5C5D-4599-8F2A-67C244A4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456AA-B59E-4A4F-8830-82CDA451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7A609-405C-40B2-8413-9F6ADC0E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29E8D-0F79-47D8-AD63-6F9B4E28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9C504-175B-46CD-90BA-5D458F4C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E6CFF-665C-4697-80CD-56E91D9F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63961-9C05-4543-BCD3-8366E270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E5F-3E80-4182-9A79-C8D0AB23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35ADC-F6B7-4E45-876D-C4434E81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D1947-4F39-48FA-AC59-A1A03C03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69ED9-3037-4E80-BAAC-081360A6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76F03-54BD-4289-BB08-032EAAFC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D755E-9DE4-42B2-968A-42CE7384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254F1-22B9-4C1D-BD34-C0EDF2A1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50D95-DD98-4958-95D6-208DAAB8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27C57-E402-477C-ACA9-F5417EB3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944A7-0943-465F-899D-15FD5909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278FC-ACB8-400D-A0FE-1B9D0B82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57F-AFD6-41D5-8C18-35428E45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C8C91-F627-4065-9B70-9A31086E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51180-BACD-4C80-8A9A-2C2EB236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1E2CC-194B-4CF5-AC4B-916D079F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DD8E9-6880-42AC-BE87-88A6D278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274B5-D77C-4182-9588-88DD0A90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66278-4C3F-488B-8168-6F30D9A4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76103-EB37-4377-B234-E9E6F915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E88A9-1272-4C93-AC93-1562618E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74E72-8E2A-46E3-9723-D7C740FA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9535B-D690-4DF2-A496-261C44D0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844-831D-4FC5-8EA4-A38DE9B0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008D9-F713-4031-8F03-DE5A284E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552E5-260D-4038-BFC1-54412B1F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88841-ADD3-42AF-9752-C462495A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D8FDA-2159-4475-8752-9647E6B1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79863-3981-4340-92E6-7630DC3E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9EE30-7D41-44DF-B452-F45AFD47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656B1-67A4-49CA-8995-EEE6F608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7112-ED15-43C9-B670-2855CF1E2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F006-ACF7-400F-B596-96C8F9AE6CF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A7DD-5C21-442A-ADF4-B9938E647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C2D7-E487-4DA2-8FDC-546652C0C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B5E0-FF13-4B24-B610-BF5986F1F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7858-FDCC-4F5F-8559-166CC7636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A1BC-8AC8-45EB-B8C5-59A7041138B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8C48-7A2E-41D7-9BB5-20FDC630D3E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File:Satellite_image_of_Cape_peninsula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3" descr=""/>
          <p:cNvPicPr/>
          <p:nvPr/>
        </p:nvPicPr>
        <p:blipFill>
          <a:blip r:embed="rId1"/>
          <a:stretch/>
        </p:blipFill>
        <p:spPr>
          <a:xfrm>
            <a:off x="457200" y="512640"/>
            <a:ext cx="8010360" cy="16272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6"/>
          <p:cNvSpPr/>
          <p:nvPr/>
        </p:nvSpPr>
        <p:spPr>
          <a:xfrm>
            <a:off x="662940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bd8"/>
                </a:solidFill>
                <a:latin typeface="Script MT Bold"/>
              </a:rPr>
              <a:t>Oas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Picture 6" descr="https://mkis4a.pbworks.com/f/Huacachina%20Oasis.jpeg"/>
          <p:cNvPicPr/>
          <p:nvPr/>
        </p:nvPicPr>
        <p:blipFill>
          <a:blip r:embed="rId2"/>
          <a:stretch/>
        </p:blipFill>
        <p:spPr>
          <a:xfrm>
            <a:off x="380880" y="2666880"/>
            <a:ext cx="5410440" cy="33814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3" descr=""/>
          <p:cNvPicPr/>
          <p:nvPr/>
        </p:nvPicPr>
        <p:blipFill>
          <a:blip r:embed="rId1"/>
          <a:stretch/>
        </p:blipFill>
        <p:spPr>
          <a:xfrm>
            <a:off x="231840" y="-92160"/>
            <a:ext cx="8461440" cy="17622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19ff"/>
                </a:solidFill>
                <a:latin typeface="Script MT Bold"/>
              </a:rPr>
              <a:t>Mountain rang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Picture 6" descr="Rocky Mountains"/>
          <p:cNvPicPr/>
          <p:nvPr/>
        </p:nvPicPr>
        <p:blipFill>
          <a:blip r:embed="rId2"/>
          <a:stretch/>
        </p:blipFill>
        <p:spPr>
          <a:xfrm>
            <a:off x="533520" y="1798560"/>
            <a:ext cx="5867280" cy="4694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-6480"/>
            <a:ext cx="8150400" cy="1354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http://www.musetrek.com/assets/photos/406/406/medium_12889028642632.jpg"/>
          <p:cNvPicPr/>
          <p:nvPr/>
        </p:nvPicPr>
        <p:blipFill>
          <a:blip r:embed="rId2"/>
          <a:stretch/>
        </p:blipFill>
        <p:spPr>
          <a:xfrm>
            <a:off x="4724280" y="2819520"/>
            <a:ext cx="3743280" cy="3381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4" descr="http://t0.gstatic.com/images?q=tbn:ANd9GcQmOxrYNdZVnDZ9ivLZuG_KUtZNiu0_1UBaIbmKOMMHqc04ebaP4inzJjburg"/>
          <p:cNvPicPr/>
          <p:nvPr/>
        </p:nvPicPr>
        <p:blipFill>
          <a:blip r:embed="rId3"/>
          <a:stretch/>
        </p:blipFill>
        <p:spPr>
          <a:xfrm>
            <a:off x="304920" y="3429000"/>
            <a:ext cx="3687480" cy="276228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4"/>
          <p:cNvSpPr/>
          <p:nvPr/>
        </p:nvSpPr>
        <p:spPr>
          <a:xfrm>
            <a:off x="16765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Box 15"/>
          <p:cNvSpPr/>
          <p:nvPr/>
        </p:nvSpPr>
        <p:spPr>
          <a:xfrm>
            <a:off x="60958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3" name="Straight Arrow Connector 19" descr=""/>
          <p:cNvPicPr/>
          <p:nvPr/>
        </p:nvPicPr>
        <p:blipFill>
          <a:blip r:embed="rId4"/>
          <a:stretch/>
        </p:blipFill>
        <p:spPr>
          <a:xfrm>
            <a:off x="4498920" y="3230640"/>
            <a:ext cx="2206800" cy="1371600"/>
          </a:xfrm>
          <a:prstGeom prst="rect">
            <a:avLst/>
          </a:prstGeom>
          <a:ln w="0">
            <a:noFill/>
          </a:ln>
        </p:spPr>
      </p:pic>
      <p:pic>
        <p:nvPicPr>
          <p:cNvPr id="384" name="Straight Arrow Connector 21" descr=""/>
          <p:cNvPicPr/>
          <p:nvPr/>
        </p:nvPicPr>
        <p:blipFill>
          <a:blip r:embed="rId5"/>
          <a:stretch/>
        </p:blipFill>
        <p:spPr>
          <a:xfrm>
            <a:off x="2365200" y="3230640"/>
            <a:ext cx="17496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85" name="TextBox 22"/>
          <p:cNvGrpSpPr/>
          <p:nvPr/>
        </p:nvGrpSpPr>
        <p:grpSpPr>
          <a:xfrm>
            <a:off x="-79200" y="1139760"/>
            <a:ext cx="2371680" cy="2468520"/>
            <a:chOff x="-79200" y="1139760"/>
            <a:chExt cx="2371680" cy="2468520"/>
          </a:xfrm>
        </p:grpSpPr>
        <p:pic>
          <p:nvPicPr>
            <p:cNvPr id="386" name="TextBox 22" descr=""/>
            <p:cNvPicPr/>
            <p:nvPr/>
          </p:nvPicPr>
          <p:blipFill>
            <a:blip r:embed="rId6"/>
            <a:stretch/>
          </p:blipFill>
          <p:spPr>
            <a:xfrm>
              <a:off x="-79200" y="1139760"/>
              <a:ext cx="237168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0" y="1219320"/>
              <a:ext cx="2209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c99ff"/>
                  </a:solidFill>
                  <a:latin typeface="Century Gothic"/>
                </a:rPr>
                <a:t>The source is the beginning of a river and the mouth is the e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in" orient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304920" y="347760"/>
            <a:ext cx="8010360" cy="14875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9"/>
          <p:cNvSpPr/>
          <p:nvPr/>
        </p:nvSpPr>
        <p:spPr>
          <a:xfrm>
            <a:off x="76212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2c"/>
                </a:solidFill>
                <a:latin typeface="Rockwell Condensed"/>
              </a:rPr>
              <a:t>A plateau is a high flat land a plain is not hig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Picture 6" descr="http://divingintolearning.wikispaces.com/file/view/Plains.jpg/184778861/Plains.jpg"/>
          <p:cNvPicPr/>
          <p:nvPr/>
        </p:nvPicPr>
        <p:blipFill>
          <a:blip r:embed="rId2"/>
          <a:stretch/>
        </p:blipFill>
        <p:spPr>
          <a:xfrm>
            <a:off x="228600" y="3429000"/>
            <a:ext cx="4154400" cy="2771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http://media-cdn.tripadvisor.com/media/photo-s/01/6b/49/96/waterberg-plateau-park.jpg"/>
          <p:cNvPicPr/>
          <p:nvPr/>
        </p:nvPicPr>
        <p:blipFill>
          <a:blip r:embed="rId3"/>
          <a:stretch/>
        </p:blipFill>
        <p:spPr>
          <a:xfrm>
            <a:off x="4648320" y="3505320"/>
            <a:ext cx="3962160" cy="26445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6"/>
          <p:cNvSpPr/>
          <p:nvPr/>
        </p:nvSpPr>
        <p:spPr>
          <a:xfrm>
            <a:off x="16765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5791320" y="3048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e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384120" y="-79200"/>
            <a:ext cx="8156520" cy="1457280"/>
          </a:xfrm>
          <a:prstGeom prst="rect">
            <a:avLst/>
          </a:prstGeom>
          <a:ln w="0">
            <a:noFill/>
          </a:ln>
        </p:spPr>
      </p:pic>
      <p:sp>
        <p:nvSpPr>
          <p:cNvPr id="395" name="TextBox 6"/>
          <p:cNvSpPr/>
          <p:nvPr/>
        </p:nvSpPr>
        <p:spPr>
          <a:xfrm>
            <a:off x="0" y="14479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0042"/>
                </a:solidFill>
                <a:latin typeface="Times New Roman"/>
              </a:rPr>
              <a:t>A glacier moves on land an iceberg is in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Picture 8" descr="http://www.rubypenguin.com/Alaska/Day7/12VassarGlacier02.JPG"/>
          <p:cNvPicPr/>
          <p:nvPr/>
        </p:nvPicPr>
        <p:blipFill>
          <a:blip r:embed="rId2"/>
          <a:stretch/>
        </p:blipFill>
        <p:spPr>
          <a:xfrm>
            <a:off x="228600" y="3581280"/>
            <a:ext cx="3733920" cy="2801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http://www.alaska-in-pictures.com/data/media/19/tracy-arm-iceberg_1377.jpg"/>
          <p:cNvPicPr/>
          <p:nvPr/>
        </p:nvPicPr>
        <p:blipFill>
          <a:blip r:embed="rId3"/>
          <a:stretch/>
        </p:blipFill>
        <p:spPr>
          <a:xfrm>
            <a:off x="4343400" y="3581280"/>
            <a:ext cx="4457880" cy="30006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9"/>
          <p:cNvSpPr/>
          <p:nvPr/>
        </p:nvSpPr>
        <p:spPr>
          <a:xfrm>
            <a:off x="144792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ac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Box 10"/>
          <p:cNvSpPr/>
          <p:nvPr/>
        </p:nvSpPr>
        <p:spPr>
          <a:xfrm>
            <a:off x="5943600" y="3124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e be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2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3" descr=""/>
          <p:cNvPicPr/>
          <p:nvPr/>
        </p:nvPicPr>
        <p:blipFill>
          <a:blip r:embed="rId1"/>
          <a:stretch/>
        </p:blipFill>
        <p:spPr>
          <a:xfrm>
            <a:off x="384120" y="92160"/>
            <a:ext cx="8004240" cy="15904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6"/>
          <p:cNvSpPr/>
          <p:nvPr/>
        </p:nvSpPr>
        <p:spPr>
          <a:xfrm>
            <a:off x="6705720" y="3200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0062"/>
                </a:solidFill>
                <a:latin typeface="Ravie"/>
              </a:rPr>
              <a:t>p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6" descr="http://t2.gstatic.com/images?q=tbn:ANd9GcStIihgQTNKQuC9S4yh2T62yid0XoEOrnJWRir0qUk6ABTktFv6gmbm6LF0uA"/>
          <p:cNvPicPr/>
          <p:nvPr/>
        </p:nvPicPr>
        <p:blipFill>
          <a:blip r:embed="rId2"/>
          <a:stretch/>
        </p:blipFill>
        <p:spPr>
          <a:xfrm>
            <a:off x="838080" y="2362320"/>
            <a:ext cx="5562720" cy="3608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3" descr=""/>
          <p:cNvPicPr/>
          <p:nvPr/>
        </p:nvPicPr>
        <p:blipFill>
          <a:blip r:embed="rId1"/>
          <a:stretch/>
        </p:blipFill>
        <p:spPr>
          <a:xfrm>
            <a:off x="536400" y="146160"/>
            <a:ext cx="8174160" cy="19270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6"/>
          <p:cNvSpPr/>
          <p:nvPr/>
        </p:nvSpPr>
        <p:spPr>
          <a:xfrm>
            <a:off x="65530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c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6" descr="http://upload.wikimedia.org/wikipedia/commons/thumb/1/1d/Satellite_image_of_Cape_peninsula.jpg/250px-Satellite_image_of_Cape_peninsul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2819520"/>
            <a:ext cx="5878800" cy="3714480"/>
          </a:xfrm>
          <a:prstGeom prst="rect">
            <a:avLst/>
          </a:prstGeom>
          <a:ln w="0">
            <a:noFill/>
          </a:ln>
        </p:spPr>
      </p:pic>
      <p:sp>
        <p:nvSpPr>
          <p:cNvPr id="353" name="Down Arrow 11"/>
          <p:cNvSpPr/>
          <p:nvPr/>
        </p:nvSpPr>
        <p:spPr>
          <a:xfrm>
            <a:off x="4419720" y="4343400"/>
            <a:ext cx="1218960" cy="12193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f388c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3" descr=""/>
          <p:cNvPicPr/>
          <p:nvPr/>
        </p:nvPicPr>
        <p:blipFill>
          <a:blip r:embed="rId1"/>
          <a:stretch/>
        </p:blipFill>
        <p:spPr>
          <a:xfrm>
            <a:off x="384120" y="512640"/>
            <a:ext cx="8004240" cy="1627200"/>
          </a:xfrm>
          <a:prstGeom prst="rect">
            <a:avLst/>
          </a:prstGeom>
          <a:ln w="0">
            <a:noFill/>
          </a:ln>
        </p:spPr>
      </p:pic>
      <p:sp>
        <p:nvSpPr>
          <p:cNvPr id="35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Picture 6" descr="http://gowaterfalling.com/waterfalls/images/full/mi/vslateriverfalls1.jpg"/>
          <p:cNvPicPr/>
          <p:nvPr/>
        </p:nvPicPr>
        <p:blipFill>
          <a:blip r:embed="rId2"/>
          <a:stretch/>
        </p:blipFill>
        <p:spPr>
          <a:xfrm>
            <a:off x="2057400" y="2438280"/>
            <a:ext cx="3124080" cy="416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3" descr=""/>
          <p:cNvPicPr/>
          <p:nvPr/>
        </p:nvPicPr>
        <p:blipFill>
          <a:blip r:embed="rId1"/>
          <a:stretch/>
        </p:blipFill>
        <p:spPr>
          <a:xfrm>
            <a:off x="384120" y="146160"/>
            <a:ext cx="8332920" cy="1927080"/>
          </a:xfrm>
          <a:prstGeom prst="rect">
            <a:avLst/>
          </a:prstGeom>
          <a:ln w="0">
            <a:noFill/>
          </a:ln>
        </p:spPr>
      </p:pic>
      <p:sp>
        <p:nvSpPr>
          <p:cNvPr id="358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nap ITC"/>
              </a:rPr>
              <a:t>Volc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9" name="Picture 6" descr="http://upload.wikimedia.org/wikipedia/commons/5/5a/Green_Izalco_Volcano.JPG"/>
          <p:cNvPicPr/>
          <p:nvPr/>
        </p:nvPicPr>
        <p:blipFill>
          <a:blip r:embed="rId2"/>
          <a:stretch/>
        </p:blipFill>
        <p:spPr>
          <a:xfrm>
            <a:off x="609480" y="2235240"/>
            <a:ext cx="5943600" cy="396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3" descr=""/>
          <p:cNvPicPr/>
          <p:nvPr/>
        </p:nvPicPr>
        <p:blipFill>
          <a:blip r:embed="rId1"/>
          <a:stretch/>
        </p:blipFill>
        <p:spPr>
          <a:xfrm>
            <a:off x="530280" y="-12600"/>
            <a:ext cx="7937280" cy="228600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Platea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2" name="Picture 6" descr="http://media-3.web.britannica.com/eb-media/90/118890-004-8C5E9046.jpg"/>
          <p:cNvPicPr/>
          <p:nvPr/>
        </p:nvPicPr>
        <p:blipFill>
          <a:blip r:embed="rId2"/>
          <a:stretch/>
        </p:blipFill>
        <p:spPr>
          <a:xfrm>
            <a:off x="457200" y="2590920"/>
            <a:ext cx="5878440" cy="388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3" descr=""/>
          <p:cNvPicPr/>
          <p:nvPr/>
        </p:nvPicPr>
        <p:blipFill>
          <a:blip r:embed="rId1"/>
          <a:stretch/>
        </p:blipFill>
        <p:spPr>
          <a:xfrm>
            <a:off x="304920" y="-244440"/>
            <a:ext cx="8431200" cy="261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http://www.geoblox.com/images/ria_coast_cl.jpg"/>
          <p:cNvPicPr/>
          <p:nvPr/>
        </p:nvPicPr>
        <p:blipFill>
          <a:blip r:embed="rId2"/>
          <a:stretch/>
        </p:blipFill>
        <p:spPr>
          <a:xfrm>
            <a:off x="533520" y="2968560"/>
            <a:ext cx="5181480" cy="38894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4"/>
          <p:cNvSpPr/>
          <p:nvPr/>
        </p:nvSpPr>
        <p:spPr>
          <a:xfrm>
            <a:off x="6553080" y="3429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iner Hand ITC"/>
              </a:rPr>
              <a:t>del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3" descr=""/>
          <p:cNvPicPr/>
          <p:nvPr/>
        </p:nvPicPr>
        <p:blipFill>
          <a:blip r:embed="rId1"/>
          <a:stretch/>
        </p:blipFill>
        <p:spPr>
          <a:xfrm>
            <a:off x="304920" y="-182520"/>
            <a:ext cx="8875440" cy="2047680"/>
          </a:xfrm>
          <a:prstGeom prst="rect">
            <a:avLst/>
          </a:prstGeom>
          <a:ln w="0">
            <a:noFill/>
          </a:ln>
        </p:spPr>
      </p:pic>
      <p:sp>
        <p:nvSpPr>
          <p:cNvPr id="367" name="TextBox 6"/>
          <p:cNvSpPr/>
          <p:nvPr/>
        </p:nvSpPr>
        <p:spPr>
          <a:xfrm>
            <a:off x="67057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gneto"/>
              </a:rPr>
              <a:t>Glaci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8" name="Picture 6" descr="http://www.iceagenow.com/Perito_Moreno_Glacier.jpg"/>
          <p:cNvPicPr/>
          <p:nvPr/>
        </p:nvPicPr>
        <p:blipFill>
          <a:blip r:embed="rId2"/>
          <a:stretch/>
        </p:blipFill>
        <p:spPr>
          <a:xfrm>
            <a:off x="609480" y="2133720"/>
            <a:ext cx="5791320" cy="43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3" descr=""/>
          <p:cNvPicPr/>
          <p:nvPr/>
        </p:nvPicPr>
        <p:blipFill>
          <a:blip r:embed="rId1"/>
          <a:stretch/>
        </p:blipFill>
        <p:spPr>
          <a:xfrm>
            <a:off x="231840" y="-85680"/>
            <a:ext cx="8461440" cy="17557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encil"/>
              </a:rPr>
              <a:t>des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1" name="Picture 6" descr="http://t1.gstatic.com/images?q=tbn:ANd9GcRnuGgjmv5_YxxGWVYEyidaq7bPIamJLJQ_1SDjR_12HtGhXw13liusroWkbg"/>
          <p:cNvPicPr/>
          <p:nvPr/>
        </p:nvPicPr>
        <p:blipFill>
          <a:blip r:embed="rId2"/>
          <a:stretch/>
        </p:blipFill>
        <p:spPr>
          <a:xfrm>
            <a:off x="609480" y="2209680"/>
            <a:ext cx="6059520" cy="4032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20:12:15Z</dcterms:modified>
  <cp:revision>30</cp:revision>
  <dc:subject/>
  <dc:title>PowerPoint Presentation</dc:title>
</cp:coreProperties>
</file>